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8B7F-AACF-4CE6-95F0-64C5DB5A4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250D-8E87-4831-B16C-CD0953F9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9D0-5592-4E75-AE50-5F9EB109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2D2-04FA-4F37-BC33-D2EE2ABB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9E2-F240-4091-B5A5-2F22C474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5B3-1B19-483F-9021-42FDC9FF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302-1900-4828-BC85-01C46B3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7A4-EA1D-4E52-9C0D-539DE178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680-4720-49DB-9E56-4ED272D9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77F-9F82-4B40-AAD1-D700FE04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56A-5D9C-457F-A9ED-A4715E3D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A92-6E24-49ED-A9F4-DF173F0B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51B-0ABD-442D-9513-EF67F3DE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EE8-1BDB-4EF7-B41C-15949173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D961-93AE-47D8-8FAB-392B8D1E1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mr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 Dónde está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. Mi llamas Semra. 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ives Queens. Yo tengo quince años. Yo soy amable y energica. Yo tengo dos herman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565520"/>
            <a:ext cx="65736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.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57:18Z</dcterms:created>
  <dc:creator>FriscoISD</dc:creator>
  <dc:description/>
  <dc:language>en-US</dc:language>
  <cp:lastModifiedBy>NYCDOE</cp:lastModifiedBy>
  <dcterms:modified xsi:type="dcterms:W3CDTF">2012-12-04T15:09:01Z</dcterms:modified>
  <cp:revision>104</cp:revision>
  <dc:subject/>
  <dc:title>Profile</dc:title>
</cp:coreProperties>
</file>